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EC7-98BF-4466-AFF1-3E8FD080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2D3-9D23-425E-9E9F-74174588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98D-B1B0-4974-AE0C-1B0F3889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99B-B3D0-4EB0-942E-9300CCF2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996B-059C-4D60-BB2B-593D7E39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4A4E-8104-40AC-BAFB-EDB80BE1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D337-C8B7-4AA4-BAD9-92CDCA08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CF01-F6AF-468B-95B8-1066265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3BD9-7189-4947-8EA2-76F7630D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9476-DCB5-4342-BEF6-6AC8FB5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FF07-7031-43A0-A710-FAE4DB8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DF4-E9C7-433E-BF48-67BB1716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3F1B-AEF9-4D4C-BB00-AC9F844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852D-B241-473A-B50C-BDB856AA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F1CB-85A7-4DF7-BEC9-F98D1B32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E4E6-B0E4-43D7-9175-1340A2B7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7636-1CED-4205-A411-4A338371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5BE-10A4-4489-9E5F-540A5EF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8E4-DEC1-4685-B4A2-FA197756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EAE-049B-4FEC-80B7-457D6C85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6F5-4A6B-4462-899F-59CAE574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072-9CD5-484A-9BB6-276B60E8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CE8-9567-44C6-9C57-8B737AD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C63-7E03-4E6D-8873-B0EE284F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7985-80EB-4683-A01E-4677E06529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623-B47B-4308-858B-AAE907B494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хемы складирова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8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змещения на чертеже принятых схем складирования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Используемые схемы соответствуют нормативным требованиям техники  безопасности к складированию отдельных видов строительных конструкций и материалов открытого хранения, а также требованиям пожарной безопасност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Для определения потребности в площадях для складирования материалов и изделий, оборудования и машин можно воспользоваться модулем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Складские площад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3160" y="56721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лавное окно программного модуля позволяет вставить в чертеж выбранную схему порядка складирова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85960" y="985680"/>
            <a:ext cx="5981760" cy="44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складирова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098800" y="1641600"/>
            <a:ext cx="5376600" cy="44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14:46Z</dcterms:modified>
  <cp:revision>271</cp:revision>
  <dc:subject/>
  <dc:title>Слайд 1</dc:title>
</cp:coreProperties>
</file>